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0EC8-0340-4737-8CE9-0B0CF1D8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F65A-856E-4297-9706-6ACE95D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A647-797C-4A3C-9141-B0EB3583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DA76-4A09-44DB-9FC7-4CBDC75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2DBF-3DED-4DDB-A6E3-5740388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2DBA-A66F-4CE4-85E4-90E590FA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0FB7-4507-437E-A56F-86B28AD0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0A8F-154B-4F93-B87D-44D8FE5B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7DA5-8179-4F90-8548-45953126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DDD4-EFA1-4957-9809-C57A864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EAC9-6262-466F-9B18-F6D4017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F1C9-50B2-4289-8160-D39999D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845-0842-4458-B284-0F8F2C205A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Drama, Poetry, Literary Term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e8d8c"/>
                </a:solidFill>
                <a:latin typeface="Calibri"/>
              </a:rPr>
              <a:t>Romeo &amp; Julie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Metapho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omparison of two unlike things that does not use like or as; it says that something is something els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mi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omparison of two unlike things using like or a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ersonific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Giving living qualities to inanimate (non-living) object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oi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haracter who provides a striking contrast to another character; used to emphasize the traits possessed by both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lank Ver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Unrhymed poetry with regular rhythm spoken by most of the characters in the play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ntences, not poetry, spoken by servants or common peop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hy wouldn’t the servants get to speak in poetry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hyming Coup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wo consecutive lines that rhyme; often it is used by an actor to signal the end of a scen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rchaic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ords like “thou” and “doth” and “thither” which have disappeared from common us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ther 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u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A joke based on several words with several meanings or on words that sound alike but have different meanings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My grade in Marine Biology is below sea-level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When Mercutio begs Romeo to dance, Romeo refuses. Unlike Mercutio’s shoes with “nimble soles,” Romeo says that he has a “soul of lead.”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Mom, thanks for the soup. It was SOUPer!”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hakespearean Sonnet #116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t me not to the marriage of true minds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t impediments. Love is not lov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ich alters when it alteration finds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 bends with the remover to remove: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 no! it is an ever-fixed mar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at looks on tempests and is never shaken;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the star to every wandering bark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se worth's unknown, although his height be tak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ve's not Time's fool, though rosy lips and cheeks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ithin his bending sickle's compass come: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ve alters not with his brief hours and weeks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ut bears it out even to the edge of doom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   If this be error and upon me proved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   I never writ, nor no man ever lov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6553080" y="129528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Metapho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yllabl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Personifica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Archaic Languag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rhyming coupl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efore we begin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is a play different from a novel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ook through the terms on your paper and talk with your table partner about any that you may know/be familiar with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hakespearean Sonnet #130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y mistress' eyes are nothing like the sun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Coral is far more red than her lips' red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f snow be white, why then her breasts are dun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f hairs be wires, black wires grow on her hea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have seen roses damask'd, red and white,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But no such roses see I in her cheeks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d in some perfumes is there more deligh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Than in the breath that from my mistress reek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love to hear her speak, yet well I know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That music hath a far more pleasing soun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grant I never saw a goddess go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y mistress, when she walks, treads on the groun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  And yet, by heaven, I think my love as rar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  As any she belied with false compare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800600" y="160020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imi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yllabl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Personifica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Archaic Languag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rhyming coupl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s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A speech by a character that is heard by the audience but not by the other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Mono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long speech by one character directed to at least one other character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liloqu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long speech spoken by a character who (presumably) is along on stag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Lets the audience know what the character is thinking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speech at the beginning of an act directed at the audience which comments on the events in the play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ia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onversation between 2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oreshadow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Hints or clues that the writer gives to indicate events and situations that will occur later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age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scriptive words and phrases that re-create sensory experiences for the reader; writing that appeals to one or more of the sense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3:10:44Z</dcterms:created>
  <dc:creator>Alexa Hayes</dc:creator>
  <dc:description/>
  <dc:language>en-US</dc:language>
  <cp:lastModifiedBy>Alexa Hayes</cp:lastModifiedBy>
  <dcterms:modified xsi:type="dcterms:W3CDTF">2013-02-15T15:29:17Z</dcterms:modified>
  <cp:revision>4</cp:revision>
  <dc:subject/>
  <dc:title>Drama, Poetry, Literary Terms</dc:title>
</cp:coreProperties>
</file>